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2B6-31F4-4626-B72B-DDFF6B3F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574-F6A1-4E98-BF9B-0E4DA594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01AA6-9B91-4922-A088-E30C3C2C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3A535-CEB4-42FC-B00F-58ADB85D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DC36F-3159-45D4-B274-01FA1AB3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7892D-9EA5-4D66-8CF7-53A57F7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051A2-2845-44A9-8E4A-79FEA2C9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EB684-8BAB-4403-814F-E2FC078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E2922-69DC-4975-84F3-AFF7D988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5F9A5-6A4C-4D45-8BA5-50D0E98F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3090D-8B40-44FC-83F3-E0AFE63F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3AACC-50C6-4930-B561-6C841F7F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D1B-FBAC-4966-A7D2-032468AA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B04CC-32A4-4164-8497-3AA9B77F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7EE5B-40DE-4120-A7C9-43121E3E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421FD-FCBA-42DC-B1C9-25BA3546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583CF-37B4-47E6-8AB5-C43A5F4C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781B2-A038-4D74-B53A-4FF96BD6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FF484-768F-4B58-9898-9C851206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77590-635A-48BA-A570-CEBCA641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45A62-69C7-4FBF-9BD5-6544A09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910E7-60BD-487D-BC6A-567C55B9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C95E0-F716-47C6-B983-4D33F867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58C-FDF1-4A3F-BA26-7F869269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109B3-4D44-45B0-B6B2-D225D7DF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2D950-7BFB-4878-9A5B-494A9DB1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70D16-E9F6-4748-A674-DE1E6F8D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D7233-E786-4354-A581-2CE2431D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0ABC8-FE5A-4130-897C-D5DBD46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27695-99EE-456C-8604-451DC306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653EC-429E-466F-B3B3-CC13B78E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9BD6C-5544-4E9E-8827-89A9867B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66713-D167-4209-9139-89E2D04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191C7-0CF6-46BE-AFF5-7639809C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6BB7-0940-46C1-9893-9807E6F3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A2808-8C1A-49AF-8558-53F0AB6A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3AAAF-7E9F-4180-A209-DE40091C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EEDE6-858C-4F96-BF3F-88E2B64C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C2D23-D13D-4185-9788-06673046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784AE-6C95-4237-87F3-7BCA4F50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C5610-2855-406B-8E8C-B6D0D38C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006A3-A8FE-44D6-A21F-D366B8B7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59E99-4711-4877-9DCE-9B87D998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3BA78-991B-4AF4-AF06-E23AC032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4688D-6FCF-4D48-8A0F-44E2990B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E81B-7D1B-4711-9235-2C51FC08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5F950-F1F7-4C4D-817A-5BA6C6D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6854D-866D-4A17-B921-446B147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EDE7E-0438-4509-B82F-05A41BE6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24B3A-9202-4E1D-8768-AA0507EA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B0C9E-3C7A-4470-B3F5-BE50A99F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1D78-0FBF-4AED-B7E0-61F169F7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1569-874E-4292-84D8-D3E54CD9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16FB-55BA-4D07-BF16-EA25B3CD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29C3-9276-484F-889B-919B7B1C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4863-69D8-4E26-B412-A211A2C3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F40-FBCC-443B-ABD9-A7758355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7D84-7D4F-454C-A8CD-9F0B016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243F-EC8D-49FC-B3ED-997C7C2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8938-B4B3-4684-A7FE-013A819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0DDF-AF63-4941-AF48-D38A628A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1EA3-38C7-436A-982C-BDE835ED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21A8-749A-4903-B86B-714D6312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F636-2D8A-4126-A3B3-E75DC8A8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2025-54E2-4A8D-9EF9-4637F67A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2DB1-03F9-441B-B308-BFE6042E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33FA-A8B0-44CA-A6D8-B5805F60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E88-D987-442D-8DA3-AA4BD992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88F1-333D-4671-B95C-797E65AE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6418E-92E9-45F1-ABA6-8EBE7E5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0728E-2201-47CD-BD95-8D16FE20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53CE-5035-4508-8EB6-9839659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7E31-0F4B-4C5A-B152-4BC6D2C2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24B7-4536-4E60-9BA5-F189B48C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85D2-30CC-4501-87F9-D6FF6E2F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F1E00-4BF7-43E2-B222-FAD3373F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43F7F-2DD9-47A9-90E4-1EA09A44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414FA-9BDA-4485-ACA0-8574ECBB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5F7-56DF-45D0-96CF-64B32E1D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7CE3-EE1F-4EBE-A01E-90D42C4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70B29-311D-409C-866A-D58EC84D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9488-973A-40DD-AD46-27BC02E8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D3CFC-A3AD-4D1A-AB65-74E27D70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2E7CC-6E93-4E6E-B3A0-F53823B9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916E-C8A6-4CF7-96D3-AE2A98CA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A785A-98A3-4C72-A000-EF893266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9731-CAE3-4EF8-A57D-2FF7B56E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AD2A7-CF8A-4260-94B8-85664743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AABB6-D424-4A50-899D-3E12FE46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11D-C11F-4F01-891D-96F2B241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5F36-5CE9-444C-AF85-0E36C20C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9486C-CFB1-43A3-A48B-F1642FA8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A5C7B-BF43-442C-B7AB-423C87E7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6EC9D-EB50-45CA-A874-9A2367C8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C87F7-59CE-4410-83C0-B3FF853A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86CBB-7E88-43BE-ABC1-DF4D940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6335-3918-466E-BC5A-B55E9D79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EB9C3-F19E-48FA-97E0-11B10EC9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CA5F1-15E3-4521-82F2-5BC730F1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FB74-5502-4BF8-BD58-666E87A3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AF7-A296-4CF3-9B05-401DDD0C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DD0FD-E89E-4EFF-B8AA-56BCB1FC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2159-F0EB-44D0-8191-860E95E4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F9494-C9BC-425A-928C-F7AEFB06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C58E-DA20-406D-AD98-0F5C264E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71FD1-112F-4138-AA31-4E25CCB3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0606F-E843-45A0-BD4E-7DB2D9D6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CADD-07B1-426E-AD13-1E8D42B6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FE1E4-A917-470B-96BD-198066D6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73F22-3946-4D11-A292-2D7BD7D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5785-989B-4ABA-8D74-91A63874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16B-B8D0-4DFF-8D33-AEB59581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D3083-B0A4-420E-83B4-703EA06F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07F20-14B8-44B5-A8CB-C2AF0952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60AFF-2D4E-459D-A474-8FA59671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B5437-D381-420C-ADEC-4AB81DE9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AFB82-5CC5-49CB-9977-9AF40384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C5012-160C-4B47-A06A-7407381C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5562F-BC02-4D36-A475-DFA891ED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3F40D-3125-4D91-92DC-601E182B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88AD7-D829-4B82-95EB-52665BB7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3E86B-59FA-429B-A601-0A1DA24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758-AC29-4949-8764-79878A5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0708D-8C70-49B9-939A-CF4B13AD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94860-FBEE-4FDE-9DE2-4A736A4E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2AE8F-91DD-43AC-98F8-E3A6F96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BC0B4-5023-479B-86E2-3ECC1CA9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09274-7401-4D09-B4BF-F6322D59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38A16-853F-4DF3-ACD1-0795AF4F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F0A9A-A0DF-4624-92A9-96DD0AC4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53888-1200-4967-83D4-B07A469A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1A9F4-390E-48ED-A671-25B8F0FB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06279-63C0-48CE-AD1F-C16814F9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777-9F37-4D6E-9A03-94E91866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7F4DF-ADAD-4F3E-ADEE-F8BC3DEB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1AC17-20EC-426E-9490-0F35437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92F14-1E49-4613-AAA8-517E3A79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9840E-CA98-4AEB-9483-E916658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5CA87-0633-4291-B796-6D95897C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10BAC-E8CE-401E-A473-19827068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9ADA7-B650-4FA6-BD4A-46D6A595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7FF53-11C5-4196-A087-7108D206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99C85-3B43-46F5-B373-F37D9D39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B9E04-B453-4DFA-AF67-523DD425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8D09-E99C-40F8-B2F7-6BBF23CCE9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7E06-F1C9-46FC-BAD0-7841C96FD6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6F1-62B5-4545-B4BA-62DAD0AF77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33CB-F31C-4873-B351-9E1D5FC39F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82E-EC3E-4D5D-AE88-4E0F75258F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A5D1-9438-4ED6-AC39-1C05F511F0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B983-CC5C-4CB8-9F9E-AEC2B8B966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D7F9-74FC-481F-8777-981B98FC31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62F2-B648-46CE-AE90-37EB23657C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166-31A4-4111-BA3D-EFD3E0638E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C6DD-F9A5-45A1-A555-4DF190D26E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CFED-0D82-4E84-8856-3099F000C0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 Chváľte svojho Stvor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te svojho Stvor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y diela jeho rú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o šíre i zem cel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ní chvál nech čujú zvu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náš Boh trojjedi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ove svojom nesklam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ľuboch stály, spoľahli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k nám sa prizná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Pána! On nás chrá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ustále o nás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y svojich štedrých dla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m s láskou ro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ôže byť človek nem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vďačne spievať smi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sa sklonil k ze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v ňom Boh s nami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jme chválu Pánu Boh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laňajme sa pokor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akujme za milosť mnoh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ia svoje otvor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všetkých už končín sve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slavná nech pieseň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ný Pán, tá Láska svä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ej chvály hoden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22:15Z</dcterms:modified>
  <cp:revision>19</cp:revision>
  <dc:subject/>
  <dc:title>Je veľký náš Pán, on slávy je Kráľ Nech do všetkých strán  spev vrúcnych znie chvál.</dc:title>
</cp:coreProperties>
</file>